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429D-8662-43E4-9AF4-93A1D034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25AC-3E2F-4929-800B-853A7499B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716B-617E-4B66-81E1-1646DF5E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E77-24AB-455F-BC8B-2781FCB02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EB78-28D1-4A89-88AC-B19DB585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1A7A-BD29-4B63-A2B5-F57AE32C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C1EE-4560-4BD7-B843-FC3503DFB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A45E-99DE-4548-9E10-BA509AAA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5BF-83A3-4376-A6A0-3B97855A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F57-EE40-4586-A589-33475706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A95-1B7F-4353-AF82-46F1FF2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17F-74B3-438E-9BD5-72931E79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2E6-B7E7-40CE-9517-80EF5E4D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DF0E-34B2-4F30-9562-CF66C164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E775-EED8-40D0-A987-BE16A5CE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B26C-54DF-41C9-BB8F-DB086684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9C7-09FC-49AC-9C5F-73390BB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514C-D2CF-43AD-A16A-EF94A66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181-B9D6-4E09-95BD-71C2650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255F-E83D-464A-85EE-C833005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8C9-06FD-42AA-BDC8-C09F080F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C217-1806-470D-A904-D1923D4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BA89-DAFC-4FF5-AE6B-A926332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7A4-5860-4935-91A8-DE20E38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829A-6369-4950-AAE5-673FE47F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D12-ACE0-4CE3-B423-D767A1F0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0842-8E0D-454A-A733-16F8F021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D880-19CD-4035-8523-1E45198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3D77-6866-4292-B0C7-B37EBFF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CD47-DBB2-4069-ADC9-1362AACA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77E9-BDC1-4F05-8C2D-012D9CA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5E5-B320-47A4-9876-A2690F5A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3EB5-A747-4E5B-9A4B-9C50C54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9434-EBEB-4A6F-986A-BFAD356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056B-079C-43B2-B67F-D5E5721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EA47-2A0C-4CA3-B25F-0355D6C3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B31B-7F8C-4742-9E7E-D929E376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605C-A41A-40D1-BE50-1EF59344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F7227-62C2-4BE9-805C-DEB5FEFD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DECF-EA1C-4836-969E-042FBDFA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4A1A-B622-4431-B4C6-C1600BB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0B99-DFD2-4D68-AE5A-5C7AABB9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378-0191-408A-A635-BE672C8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F10DF-39B7-4ECB-99AB-B1C8F39C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5BCF-11B9-4B77-A085-3F30498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F48D-84E5-45B0-9993-056ADA3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FC93-A016-465D-8154-3B797421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430E-483D-4A1D-9A15-0EA779F7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DC6B-BFB5-486A-96E8-CFFE79D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37B9-AD97-4321-A164-8376D10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766F-37EF-4B77-B9D5-7DCB321D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F8227-C3C5-49FF-B926-EBDB24FE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572-2063-4943-AE60-4D0CEC42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DDD-088E-4601-8866-93DF8F8A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1C0-76EF-431F-AA90-4FCDA91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9C6-BBD5-490A-AEB0-675852D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A0B-A35F-4520-83FF-045BC49B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518-0178-4EF9-8EB9-8BA4B421D1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00E7-6465-4B0C-8E96-B15945DB5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B4C4-2B25-4D7F-8A7D-00215DED9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9A28-3555-4417-B077-F932204728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865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Group 80" descr=""/>
          <p:cNvPicPr/>
          <p:nvPr/>
        </p:nvPicPr>
        <p:blipFill>
          <a:blip r:embed="rId1"/>
          <a:stretch/>
        </p:blipFill>
        <p:spPr>
          <a:xfrm>
            <a:off x="-6480" y="2139840"/>
            <a:ext cx="9156960" cy="3114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0"/>
          <p:cNvGrpSpPr/>
          <p:nvPr/>
        </p:nvGrpSpPr>
        <p:grpSpPr>
          <a:xfrm>
            <a:off x="0" y="3276720"/>
            <a:ext cx="9144000" cy="3124080"/>
            <a:chOff x="0" y="3276720"/>
            <a:chExt cx="9144000" cy="3124080"/>
          </a:xfrm>
        </p:grpSpPr>
        <p:sp>
          <p:nvSpPr>
            <p:cNvPr id="173" name="Wave 51"/>
            <p:cNvSpPr/>
            <p:nvPr/>
          </p:nvSpPr>
          <p:spPr>
            <a:xfrm>
              <a:off x="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Wave 52"/>
            <p:cNvSpPr/>
            <p:nvPr/>
          </p:nvSpPr>
          <p:spPr>
            <a:xfrm>
              <a:off x="4572000" y="3276720"/>
              <a:ext cx="4572000" cy="312408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780840 h 3124080"/>
                <a:gd name="textAreaBottom" fmla="*/ 23432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Wave 53"/>
          <p:cNvSpPr/>
          <p:nvPr/>
        </p:nvSpPr>
        <p:spPr>
          <a:xfrm>
            <a:off x="0" y="4191120"/>
            <a:ext cx="9144000" cy="3809880"/>
          </a:xfrm>
          <a:custGeom>
            <a:avLst/>
            <a:gdLst>
              <a:gd name="textAreaLeft" fmla="*/ 0 w 9144000"/>
              <a:gd name="textAreaRight" fmla="*/ 9144360 w 914400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7"/>
          <p:cNvSpPr/>
          <p:nvPr/>
        </p:nvSpPr>
        <p:spPr>
          <a:xfrm>
            <a:off x="357120" y="92880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arenting the “NET” Generation: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What makes our kids “cli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Box8"/>
          <p:cNvSpPr/>
          <p:nvPr/>
        </p:nvSpPr>
        <p:spPr>
          <a:xfrm>
            <a:off x="533520" y="3505320"/>
            <a:ext cx="838080" cy="637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answers – well kind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tentBox9"/>
          <p:cNvSpPr/>
          <p:nvPr/>
        </p:nvSpPr>
        <p:spPr>
          <a:xfrm>
            <a:off x="4572000" y="3809880"/>
            <a:ext cx="942840" cy="7192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k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tentBox10"/>
          <p:cNvSpPr/>
          <p:nvPr/>
        </p:nvSpPr>
        <p:spPr>
          <a:xfrm>
            <a:off x="6114960" y="4038480"/>
            <a:ext cx="895320" cy="6829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omework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tentBox11"/>
          <p:cNvSpPr/>
          <p:nvPr/>
        </p:nvSpPr>
        <p:spPr>
          <a:xfrm>
            <a:off x="7620120" y="4191120"/>
            <a:ext cx="790560" cy="60156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nused Section Spa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Box1"/>
          <p:cNvSpPr/>
          <p:nvPr/>
        </p:nvSpPr>
        <p:spPr>
          <a:xfrm>
            <a:off x="609480" y="2362320"/>
            <a:ext cx="838440" cy="6523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lides before 1st Section Divi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Box4"/>
          <p:cNvSpPr/>
          <p:nvPr/>
        </p:nvSpPr>
        <p:spPr>
          <a:xfrm>
            <a:off x="4267080" y="2895480"/>
            <a:ext cx="533520" cy="45108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UR 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tentBox6"/>
          <p:cNvSpPr/>
          <p:nvPr/>
        </p:nvSpPr>
        <p:spPr>
          <a:xfrm>
            <a:off x="6607080" y="284796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The Places they go and why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tentBox2"/>
          <p:cNvSpPr/>
          <p:nvPr/>
        </p:nvSpPr>
        <p:spPr>
          <a:xfrm>
            <a:off x="2014560" y="2847960"/>
            <a:ext cx="57636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Some questions to start…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5"/>
          <p:cNvSpPr/>
          <p:nvPr/>
        </p:nvSpPr>
        <p:spPr>
          <a:xfrm>
            <a:off x="0" y="1676520"/>
            <a:ext cx="9129600" cy="974520"/>
          </a:xfrm>
          <a:custGeom>
            <a:avLst/>
            <a:gdLst/>
            <a:ahLst/>
            <a:rect l="l" t="t" r="r" b="b"/>
            <a:pathLst>
              <a:path w="9129486" h="974876">
                <a:moveTo>
                  <a:pt x="0" y="592666"/>
                </a:moveTo>
                <a:cubicBezTo>
                  <a:pt x="245533" y="382209"/>
                  <a:pt x="491066" y="171752"/>
                  <a:pt x="1030514" y="229809"/>
                </a:cubicBezTo>
                <a:cubicBezTo>
                  <a:pt x="1569962" y="287866"/>
                  <a:pt x="2559353" y="974876"/>
                  <a:pt x="3236686" y="941009"/>
                </a:cubicBezTo>
                <a:cubicBezTo>
                  <a:pt x="3914019" y="907142"/>
                  <a:pt x="4327676" y="53219"/>
                  <a:pt x="5094514" y="26609"/>
                </a:cubicBezTo>
                <a:cubicBezTo>
                  <a:pt x="5861352" y="0"/>
                  <a:pt x="7165219" y="732971"/>
                  <a:pt x="7837714" y="781352"/>
                </a:cubicBezTo>
                <a:cubicBezTo>
                  <a:pt x="8510209" y="829733"/>
                  <a:pt x="8819847" y="573314"/>
                  <a:pt x="9129486" y="31689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Box7"/>
          <p:cNvSpPr/>
          <p:nvPr/>
        </p:nvSpPr>
        <p:spPr>
          <a:xfrm>
            <a:off x="7772400" y="3076560"/>
            <a:ext cx="860400" cy="7524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More Question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Box3"/>
          <p:cNvSpPr/>
          <p:nvPr/>
        </p:nvSpPr>
        <p:spPr>
          <a:xfrm>
            <a:off x="3124080" y="3200400"/>
            <a:ext cx="631800" cy="55260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resentation Intent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tentBox5"/>
          <p:cNvSpPr/>
          <p:nvPr/>
        </p:nvSpPr>
        <p:spPr>
          <a:xfrm>
            <a:off x="5351400" y="2467080"/>
            <a:ext cx="636480" cy="504720"/>
          </a:xfrm>
          <a:prstGeom prst="rect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oday for our k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ave 94"/>
          <p:cNvSpPr/>
          <p:nvPr/>
        </p:nvSpPr>
        <p:spPr>
          <a:xfrm>
            <a:off x="0" y="76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0" y="64771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ave 93"/>
          <p:cNvSpPr/>
          <p:nvPr/>
        </p:nvSpPr>
        <p:spPr>
          <a:xfrm>
            <a:off x="0" y="5791320"/>
            <a:ext cx="9144000" cy="990360"/>
          </a:xfrm>
          <a:custGeom>
            <a:avLst/>
            <a:gdLst>
              <a:gd name="textAreaLeft" fmla="*/ 0 w 9144000"/>
              <a:gd name="textAreaRight" fmla="*/ 9144360 w 9144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ile we were  busy growing up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all of the Berlin Wall, and the rise of the Windows 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ring – the dot com 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sourc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2.0 tools (move from passive retrieval of information to creating and sharing knowled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day for our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has always  been only one German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as always been admissible in cou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33760" y="76176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FEATUREbeingbatman3"/>
          <p:cNvPicPr/>
          <p:nvPr/>
        </p:nvPicPr>
        <p:blipFill>
          <a:blip r:embed="rId2"/>
          <a:stretch/>
        </p:blipFill>
        <p:spPr>
          <a:xfrm>
            <a:off x="5643720" y="2357280"/>
            <a:ext cx="315252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outgrown faxing as a means of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ontent Placeholder 5" descr="itouch.jpg"/>
          <p:cNvPicPr/>
          <p:nvPr/>
        </p:nvPicPr>
        <p:blipFill>
          <a:blip r:embed="rId1"/>
          <a:stretch/>
        </p:blipFill>
        <p:spPr>
          <a:xfrm>
            <a:off x="4786200" y="4214880"/>
            <a:ext cx="2357640" cy="174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erminator%202"/>
          <p:cNvPicPr/>
          <p:nvPr/>
        </p:nvPicPr>
        <p:blipFill>
          <a:blip r:embed="rId2"/>
          <a:stretch/>
        </p:blipFill>
        <p:spPr>
          <a:xfrm>
            <a:off x="6572160" y="642960"/>
            <a:ext cx="2210040" cy="3340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914400" y="17146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laces they go and wh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48" name="Picture 8" descr="MCj03126460000[1]"/>
          <p:cNvPicPr/>
          <p:nvPr/>
        </p:nvPicPr>
        <p:blipFill>
          <a:blip r:embed="rId1"/>
          <a:stretch/>
        </p:blipFill>
        <p:spPr>
          <a:xfrm>
            <a:off x="3924360" y="2060640"/>
            <a:ext cx="2071800" cy="21114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4"/>
          <p:cNvSpPr txBox="1"/>
          <p:nvPr/>
        </p:nvSpPr>
        <p:spPr>
          <a:xfrm rot="1010400">
            <a:off x="5867280" y="1341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tun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15"/>
          <p:cNvSpPr txBox="1"/>
          <p:nvPr/>
        </p:nvSpPr>
        <p:spPr>
          <a:xfrm>
            <a:off x="2268360" y="234936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S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WordArt 16"/>
          <p:cNvSpPr txBox="1"/>
          <p:nvPr/>
        </p:nvSpPr>
        <p:spPr>
          <a:xfrm rot="21163800">
            <a:off x="5940000" y="4149720"/>
            <a:ext cx="273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exop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52" name="WordArt 17"/>
          <p:cNvSpPr txBox="1"/>
          <p:nvPr/>
        </p:nvSpPr>
        <p:spPr>
          <a:xfrm rot="21177600">
            <a:off x="539280" y="3644640"/>
            <a:ext cx="23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624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ouTub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624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WordArt 18"/>
          <p:cNvSpPr txBox="1"/>
          <p:nvPr/>
        </p:nvSpPr>
        <p:spPr>
          <a:xfrm>
            <a:off x="6227640" y="2924280"/>
            <a:ext cx="223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aceboo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19"/>
          <p:cNvSpPr txBox="1"/>
          <p:nvPr/>
        </p:nvSpPr>
        <p:spPr>
          <a:xfrm>
            <a:off x="3780000" y="907920"/>
            <a:ext cx="1428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am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0"/>
          <p:cNvSpPr txBox="1"/>
          <p:nvPr/>
        </p:nvSpPr>
        <p:spPr>
          <a:xfrm>
            <a:off x="4427640" y="5734080"/>
            <a:ext cx="22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Spa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WordArt 21"/>
          <p:cNvSpPr txBox="1"/>
          <p:nvPr/>
        </p:nvSpPr>
        <p:spPr>
          <a:xfrm>
            <a:off x="3995640" y="4365720"/>
            <a:ext cx="14194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lick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7" name="WordArt 22"/>
          <p:cNvSpPr txBox="1"/>
          <p:nvPr/>
        </p:nvSpPr>
        <p:spPr>
          <a:xfrm rot="21228600">
            <a:off x="755640" y="148392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6132000"/>
                </a:gradFill>
                <a:latin typeface="Arial Black"/>
              </a:rPr>
              <a:t>Limewi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6132000"/>
              </a:gradFill>
              <a:latin typeface="Arial Black"/>
              <a:ea typeface="Arial Black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835280" y="5300640"/>
            <a:ext cx="1752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g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59" name="Picture 2" descr="http://www.seattlebeerweek.com/images/twitter_logo.png"/>
          <p:cNvPicPr/>
          <p:nvPr/>
        </p:nvPicPr>
        <p:blipFill>
          <a:blip r:embed="rId6"/>
          <a:stretch/>
        </p:blipFill>
        <p:spPr>
          <a:xfrm>
            <a:off x="6261120" y="50007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http://www.retirement-jobs-online.com/images/ebay-logo.jpg"/>
          <p:cNvPicPr/>
          <p:nvPr/>
        </p:nvPicPr>
        <p:blipFill>
          <a:blip r:embed="rId7"/>
          <a:stretch/>
        </p:blipFill>
        <p:spPr>
          <a:xfrm>
            <a:off x="35712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mspmentor.net/wp-content/uploads/2009/02/mspmentor-and-the-var-guy-podcasts-on-itunes.jpg"/>
          <p:cNvPicPr/>
          <p:nvPr/>
        </p:nvPicPr>
        <p:blipFill>
          <a:blip r:embed="rId8"/>
          <a:stretch/>
        </p:blipFill>
        <p:spPr>
          <a:xfrm>
            <a:off x="7358040" y="285840"/>
            <a:ext cx="119232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77240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94" name="Diagram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37568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do you want for y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Digital Litera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/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Questio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ossible Questions for me…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424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uch technology should I allow my children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I do about issues around email; msn; social network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prevent these issues from happen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learn more about tech and the issues surrounding it’s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this help my paren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 for YOU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928800" y="17859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– well kind of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k M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questions to sta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sted videos or pictur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mselves or their family onl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Int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y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85716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OUR da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test</cp:lastModifiedBy>
  <dcterms:modified xsi:type="dcterms:W3CDTF">2010-02-10T00:48:35Z</dcterms:modified>
  <cp:revision>61</cp:revision>
  <dc:subject/>
  <dc:title>Technology, kids and you</dc:title>
</cp:coreProperties>
</file>